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E37-9BF4-4D7C-AF21-30BA52D3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B7D-8FBC-45A9-9D64-29ED1DA8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545-C16E-4035-BA67-2953A0FB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AF3-2602-463C-95EE-BAE22AE9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24C-388D-4DAC-9DA2-F49ED7CC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4D1-0C0A-4FD0-ADAB-719E5615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6BC-496D-4C1C-95D5-953E8075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BF3-FA7C-45CC-9D80-F80388D8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859-2D15-49BF-B46C-8D13A272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CD2-52B7-4100-939B-EC0BF79C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ECD2-D68A-478E-B91D-2C9267D5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00D-5D8A-4ABB-B2A8-1A35EEEC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1E1D-B88C-4B77-82EA-E3B800CF7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werner\fkfo\borg.exe" TargetMode="External"/><Relationship Id="rId3" Type="http://schemas.openxmlformats.org/officeDocument/2006/relationships/hyperlink" Target="d:\werner\CBorg\borg.exe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werner\fkfo\kanguroopar.txt" TargetMode="External"/><Relationship Id="rId3" Type="http://schemas.openxmlformats.org/officeDocument/2006/relationships/hyperlink" Target="d:\werner\fkfo\cspborg.exe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biele Multi-Agent Syste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3886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Technology Lab (PROG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ement Informatica (DINF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ije Universiteit Brussel (VU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tieSchedul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616040"/>
          <a:ext cx="9142560" cy="437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16040"/>
                    <a:ext cx="9142560" cy="43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tieSchedul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768320"/>
          <a:ext cx="9142560" cy="437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68320"/>
                    <a:ext cx="9142560" cy="43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228600"/>
            <a:ext cx="6477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2.agentmove(“system2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2.display(“beep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905120"/>
            <a:ext cx="4190760" cy="472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1905120"/>
            <a:ext cx="4191120" cy="472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666880"/>
            <a:ext cx="1981440" cy="1143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81080" y="3809880"/>
            <a:ext cx="2362320" cy="1828800"/>
            <a:chOff x="1981080" y="3809880"/>
            <a:chExt cx="2362320" cy="1828800"/>
          </a:xfrm>
        </p:grpSpPr>
        <p:sp>
          <p:nvSpPr>
            <p:cNvPr id="96" name=""/>
            <p:cNvSpPr/>
            <p:nvPr/>
          </p:nvSpPr>
          <p:spPr>
            <a:xfrm>
              <a:off x="2362320" y="4495680"/>
              <a:ext cx="1981080" cy="1143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81080" y="3809880"/>
              <a:ext cx="60984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438280" y="3581280"/>
            <a:ext cx="5715000" cy="1981440"/>
            <a:chOff x="2438280" y="3581280"/>
            <a:chExt cx="5715000" cy="1981440"/>
          </a:xfrm>
        </p:grpSpPr>
        <p:sp>
          <p:nvSpPr>
            <p:cNvPr id="99" name=""/>
            <p:cNvSpPr/>
            <p:nvPr/>
          </p:nvSpPr>
          <p:spPr>
            <a:xfrm>
              <a:off x="6172200" y="4419720"/>
              <a:ext cx="1981080" cy="1143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38280" y="3581280"/>
              <a:ext cx="388620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. Demonstrat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grob Agent Syste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tie van P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e with Tables/Objec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type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et 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fi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reatepoint(x,y):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x()::display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y()::display(y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x(nx)::x:=nx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y(ny)::y:=ny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on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:createpoint(1,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.printx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17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20" y="1631880"/>
            <a:ext cx="46047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remotedict(“tecra/ses2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cb()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detanswer(welk)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play(wel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one()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b:createcb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calcdet([[1,8],[5,6]],c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calcdet([[1,28],[4,96]],c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85840" y="1554120"/>
            <a:ext cx="399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:remotedict(“duh.tecra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cdet(matrx,cb)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gentmove(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b.detanswer(matr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2"/>
          </p:cNvPr>
          <p:cNvSpPr/>
          <p:nvPr/>
        </p:nvSpPr>
        <p:spPr>
          <a:xfrm>
            <a:off x="4859640" y="928800"/>
            <a:ext cx="15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ra/se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3"/>
          </p:cNvPr>
          <p:cNvSpPr/>
          <p:nvPr/>
        </p:nvSpPr>
        <p:spPr>
          <a:xfrm>
            <a:off x="135360" y="928800"/>
            <a:ext cx="15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ra/ses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990720"/>
            <a:ext cx="0" cy="52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true,display(1)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recv(); agentmove(remotedict("void.tecra"))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276720" y="37339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495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:remotedict("tecra/ses1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nd(a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/>
          </p:cNvPr>
          <p:cNvSpPr/>
          <p:nvPr/>
        </p:nvSpPr>
        <p:spPr>
          <a:xfrm>
            <a:off x="2743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3"/>
          </p:cNvPr>
          <p:cNvSpPr/>
          <p:nvPr/>
        </p:nvSpPr>
        <p:spPr>
          <a:xfrm>
            <a:off x="-11430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Threaded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sieve(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prime:recv(sieve[i-1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i\\2 = 1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gentmove(remotedict("void.tecra"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(pr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tr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num:recv(sieve[i-1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( (not ((num\\prime)=0)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nd(sieve[i+1],num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)})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nguroo Zeef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rtsieve(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for(t:2,t:=t+1,t&lt;1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nd(sieve[2], t))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llector(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while(true, recv(sieve[i-1]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(sieve, i, 31, 31, collector(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eve, i,  2, 30, fsieve(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eve, i,  1,  1, startsieve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3. Internal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752480"/>
            <a:ext cx="7924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doelstelling is het ontwikkelen van een mobiele multi agent architectuur die toelaat intelligente software agents op een eenvoudige wijze samen te st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gentteam v/PR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 agent systems are computer systems to which one can delegate tasks. Software agents differ from conventional software in that they are long-lived, semi-autonomous, proactive, and adap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ttie Ma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114800"/>
            <a:ext cx="79250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oftware Agent Definier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Demonst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ner/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n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eve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ringsmechanis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s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(INT), Fraction (FRC), Void (VOI), Tables (TAB), Closures (CLO), Functions (F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ronment (E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te Environments (RE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nk Ba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bage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Mi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886200"/>
            <a:ext cx="3886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(&lt;e1&gt;+&lt;e2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(&lt;e1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(&lt;e2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886200"/>
            <a:ext cx="5791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320040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429000"/>
            <a:ext cx="5257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34290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3124080"/>
            <a:ext cx="57913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eval swap eval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swap eval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eval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satie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6360" y="2514600"/>
            <a:ext cx="104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9960" y="396252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13716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144792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7640" y="2819520"/>
            <a:ext cx="104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67280" y="2575080"/>
            <a:ext cx="104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43240" y="341316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18080" y="396252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42160" y="3962520"/>
            <a:ext cx="123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743200"/>
            <a:ext cx="1066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29718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9718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019920" y="2819160"/>
            <a:ext cx="76176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971800"/>
            <a:ext cx="76176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419112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419112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419112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49760" y="1538280"/>
            <a:ext cx="95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13160" y="1538280"/>
            <a:ext cx="142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84960" y="1538280"/>
            <a:ext cx="5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320" y="2209680"/>
            <a:ext cx="8839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sati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720" y="249876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11480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60020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5480" y="2803680"/>
            <a:ext cx="104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67280" y="2575080"/>
            <a:ext cx="104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42160" y="4648320"/>
            <a:ext cx="192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743200"/>
            <a:ext cx="1066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29718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297180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19920" y="2819160"/>
            <a:ext cx="76176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4419720"/>
            <a:ext cx="83808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487692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4876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97480" y="1538280"/>
            <a:ext cx="95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89480" y="1538280"/>
            <a:ext cx="142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84960" y="1538280"/>
            <a:ext cx="5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160" y="4572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400" y="341316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18800" y="37180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90600" y="34894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3657600"/>
            <a:ext cx="1066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38862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886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943600" y="3733560"/>
            <a:ext cx="762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320" y="2209680"/>
            <a:ext cx="8839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res van een agent wijzigt niet na mig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gratie moet minimale performantie impact heb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res moet zelf te kiezen z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30840" y="2651040"/>
            <a:ext cx="85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3600" y="409896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83120" y="440388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84240" y="447984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3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41240" y="12794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5160" y="4549680"/>
            <a:ext cx="211896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34680" y="4854600"/>
            <a:ext cx="211896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07080" y="4930920"/>
            <a:ext cx="19972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78080" y="3102120"/>
            <a:ext cx="19972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88120" y="1730520"/>
            <a:ext cx="199692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981080" y="3581280"/>
            <a:ext cx="13716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35812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266720" y="220968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29400" y="2209680"/>
            <a:ext cx="91440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8080" y="1577880"/>
            <a:ext cx="3501360" cy="82404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 sub1.tecr.a/ses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reren naar sub2.tecr.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30840" y="2651040"/>
            <a:ext cx="85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3600" y="409896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83120" y="440388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84240" y="447984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3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41240" y="12794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00" y="4549680"/>
            <a:ext cx="260676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34680" y="4854600"/>
            <a:ext cx="211896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7080" y="4930920"/>
            <a:ext cx="19972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78080" y="3102120"/>
            <a:ext cx="22258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88120" y="1730520"/>
            <a:ext cx="199692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981080" y="3581280"/>
            <a:ext cx="13716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19720" y="35812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266720" y="220968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2209680"/>
            <a:ext cx="91440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4647960"/>
            <a:ext cx="304560" cy="22860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30840" y="2651040"/>
            <a:ext cx="85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3600" y="409896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83120" y="440388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84240" y="447984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3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41240" y="12794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1200" y="4549680"/>
            <a:ext cx="260676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30720" y="4854600"/>
            <a:ext cx="2530440" cy="118980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2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07080" y="4930920"/>
            <a:ext cx="19972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78080" y="3102120"/>
            <a:ext cx="24544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88120" y="1730520"/>
            <a:ext cx="199692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981080" y="3581280"/>
            <a:ext cx="13716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35812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266720" y="220968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2209680"/>
            <a:ext cx="91440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590920" y="4647960"/>
            <a:ext cx="304560" cy="22860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124080"/>
            <a:ext cx="0" cy="38124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currentie/Synchronis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16765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ynchrone message s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3048120"/>
            <a:ext cx="5791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satieprimitieven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236232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90920" y="39625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29000"/>
          </a:bodyPr>
          <a:p>
            <a:pPr marL="99360" indent="-99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-99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-99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-99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/Recv/Syn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. Definitie Software Ag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: C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  ALT  SND  RECV  binnen a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D send message naar andere agent (bloc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V wacht op inkomende message met een bepaald patroon (bloc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 creeert voor elke tak een nieuwe agent en laat ze concurrent ru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 is een probleem omwille van de gu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 SEND RECV CRE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maakt nieuwe gekloonde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stuurt bericht naar een agent (asyn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V ontvangt een bericht van een agent (asyn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 blokt tot andere agent gelijk loo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v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pacekl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ratie v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i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biel Multi-Agent Syste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 taal/library die mobiele multi agents onderste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c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biele Multi Ag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e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ftw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e in staat is t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unicer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 andere agents en die k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grer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ussen verschillen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vs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Area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biele Multi Ag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geri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  Code/Data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threa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s runnen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sending between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aming/Agent Identif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219320"/>
            <a:ext cx="4876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9000"/>
          </a:bodyPr>
          <a:p>
            <a:pPr marL="167760" indent="-167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Rea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7760" indent="-167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lf te kiezen n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7760" indent="-167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e Transpa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7760" indent="-167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Ref =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7760" indent="-167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7760" indent="-167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9625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eft een locatie transparante n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Identif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en primitiev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410080"/>
            <a:ext cx="8381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1:agentref(“tecra/ses1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1.Iep(&lt;msg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38088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2.Iep(&lt;msg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1447920"/>
            <a:ext cx="1981080" cy="1143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3429000"/>
            <a:ext cx="1981080" cy="1143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943600" y="2666880"/>
            <a:ext cx="45720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304920"/>
            <a:ext cx="99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304920"/>
            <a:ext cx="99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9144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905120"/>
            <a:ext cx="2895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19051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143000" y="4267080"/>
            <a:ext cx="2819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190512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35053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373392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5105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4382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971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8380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30481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42670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58672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586728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51055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64008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487692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1.Iep(&lt;msg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ing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stopt zelf zijn uitvoering en wordt dan her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kel de agent kan zichzelf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scrip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gent, inclusief state, kan worden stil geleg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r agents worden mogelij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eit is exploiteerba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igratie/Mobiliteit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1T00:24:36Z</dcterms:created>
  <dc:creator>EDS Belgium N.V.</dc:creator>
  <dc:description/>
  <dc:language>en-US</dc:language>
  <cp:lastModifiedBy>Werner Van Belle</cp:lastModifiedBy>
  <cp:lastPrinted>1999-09-03T19:31:39Z</cp:lastPrinted>
  <dcterms:modified xsi:type="dcterms:W3CDTF">1999-09-09T00:41:42Z</dcterms:modified>
  <cp:revision>33</cp:revision>
  <dc:subject/>
  <dc:title>Positie Optimalisaties Mobiele Multi Agent Systemen</dc:title>
</cp:coreProperties>
</file>